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D5BB-E369-42CE-BC9A-A6B06B2C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3841-0C0F-4903-903B-3B5D7A6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D889-F46D-4DD5-9B85-F6C63CC9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E52E-7DE5-4ED2-A9B9-2CF71BCB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C6A-3DCA-44B3-9F4D-851F31D2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F3C1-91AA-4885-AF8D-E301BE6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523-5E6D-46E9-B612-0CF9765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501-4421-4882-BAC8-C17017FA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FA8-4D3F-492E-9D53-6FB7D95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014E-11D1-473E-9709-590E869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6119-6709-4BBD-8938-F8ADA00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6497-189C-40CF-8B55-CA428321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2B12-ACB6-4830-9680-0B76831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939-12D0-46B6-BAA1-1302371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536A-FB9A-4992-BDB7-1947F18D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E67-F47D-4ED2-B21A-80051F7C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CAB-5135-4C4A-B793-A91F5392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C5E2-BB2B-4956-8762-823FEA6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DE9D-A164-4003-A95E-7086CBE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6C58-8A14-4765-A3F5-D9C8C8B8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9C99-1B38-4DDC-90FD-D3AA93A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BEFA-8549-4876-B8C5-9D37C25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92B4-E932-4C48-B45C-2632704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3A45-D414-461A-BFFD-2B1AB2D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FAC4-9B76-4EA1-9272-6BC64EF4A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F9DE-9962-48FF-989F-827C6BEDA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4360" y="1628640"/>
            <a:ext cx="7704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ыхательные движения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гуляция движения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979640" y="333360"/>
            <a:ext cx="55450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ежреберных дыхательных мыш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мышц диафр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0920" y="1413000"/>
            <a:ext cx="5473800" cy="647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дная клетка опускае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пол диафрагмы восстанавли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50920" y="2421000"/>
            <a:ext cx="55454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стеночная плевра давит на легочную плев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50920" y="3500280"/>
            <a:ext cx="55454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гочная плевра отходит от пристеноч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50920" y="4437000"/>
            <a:ext cx="554544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гкие сжима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050920" y="5300640"/>
            <a:ext cx="554544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ление легочного воздуха на  2-3 мм рт. 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ше атмосфер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51280" y="633420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о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4328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4328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3141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4221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5013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5877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48980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41506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08360" cy="6524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 rot="5400000">
            <a:off x="-1970280" y="327492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ыхательные 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ервная регуляц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1413000"/>
            <a:ext cx="3168360" cy="1296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произво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я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тоты и глуб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88000" y="1341360"/>
            <a:ext cx="2879640" cy="1297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я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оты и глуб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4880" y="29973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уществл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71640" y="3716280"/>
            <a:ext cx="2808360" cy="100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ыхатель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ом продолгова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з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48360" y="3716280"/>
            <a:ext cx="2736720" cy="100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й больш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ша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25640" y="5176800"/>
            <a:ext cx="24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ействие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лодовые, болев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р. рецеп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03080" y="5248440"/>
            <a:ext cx="257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льно ускор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останавлив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ых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842920" y="907920"/>
            <a:ext cx="108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64000" y="836640"/>
            <a:ext cx="1152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11280" y="2708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16720" y="2708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68360" y="4797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88000" y="486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уморальная регуляц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26560" y="1628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оту и глубину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94520" y="26370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коря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57640" y="26557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медля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16200" y="3735360"/>
            <a:ext cx="20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быток С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8360" y="366408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достаток С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21560" y="4508640"/>
            <a:ext cx="691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результате усиления вентиляции легких дых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останавливается, т.к. концентрация углекисл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аза в крови сниж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119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556000" y="2060640"/>
            <a:ext cx="1008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2060640"/>
            <a:ext cx="7189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6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ница  1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468360" y="1052640"/>
          <a:ext cx="7993080" cy="5400720"/>
        </p:xfrm>
        <a:graphic>
          <a:graphicData uri="http://schemas.openxmlformats.org/drawingml/2006/table">
            <a:tbl>
              <a:tblPr/>
              <a:tblGrid>
                <a:gridCol w="4968720"/>
                <a:gridCol w="3024360"/>
              </a:tblGrid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хват груд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зультаты  (с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спокойном выдох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максимальном вдох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максимальном выдох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курсия груд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"/>
          <p:cNvSpPr/>
          <p:nvPr/>
        </p:nvSpPr>
        <p:spPr>
          <a:xfrm>
            <a:off x="1328760" y="260280"/>
            <a:ext cx="68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рение обхвата грудной к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Защитные  рефлексы  в регуляции дых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70972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флекторная регуляция дыхания стр. 108-1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Дыхательные рефлекс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4000" y="2349360"/>
            <a:ext cx="3887640" cy="432144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484280"/>
            <a:ext cx="288144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64000" y="1484280"/>
            <a:ext cx="302436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ЧИХ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873800">
            <a:off x="5940360" y="907920"/>
            <a:ext cx="1160640" cy="354240"/>
          </a:xfrm>
          <a:custGeom>
            <a:avLst/>
            <a:gdLst>
              <a:gd name="textAreaLeft" fmla="*/ 145080 w 1160640"/>
              <a:gd name="textAreaRight" fmla="*/ 1015560 w 1160640"/>
              <a:gd name="textAreaTop" fmla="*/ 88560 h 354240"/>
              <a:gd name="textAreaBottom" fmla="*/ 265680 h 35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8940000">
            <a:off x="2268000" y="907560"/>
            <a:ext cx="1160640" cy="354240"/>
          </a:xfrm>
          <a:custGeom>
            <a:avLst/>
            <a:gdLst>
              <a:gd name="textAreaLeft" fmla="*/ 145080 w 1160640"/>
              <a:gd name="textAreaRight" fmla="*/ 1015560 w 1160640"/>
              <a:gd name="textAreaTop" fmla="*/ 88560 h 354240"/>
              <a:gd name="textAreaBottom" fmla="*/ 265680 h 35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84360" y="2997360"/>
            <a:ext cx="792360" cy="71892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700360" y="3687840"/>
            <a:ext cx="0" cy="26938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987280" y="3716280"/>
            <a:ext cx="25560" cy="26938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9640" y="3068640"/>
            <a:ext cx="0" cy="11523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3068640"/>
            <a:ext cx="0" cy="115236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9640" y="3284640"/>
            <a:ext cx="2160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9640" y="3573360"/>
            <a:ext cx="2160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7560" y="3833640"/>
            <a:ext cx="2160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39640" y="4076640"/>
            <a:ext cx="2160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84360" y="3357720"/>
            <a:ext cx="2232000" cy="142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2920" y="3357720"/>
            <a:ext cx="73080" cy="1942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403280" y="5300640"/>
            <a:ext cx="1440000" cy="433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258560" y="5589720"/>
            <a:ext cx="576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619280" y="5589720"/>
            <a:ext cx="216000" cy="431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505800" y="5373720"/>
            <a:ext cx="220572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8" y="74"/>
                </a:moveTo>
                <a:arcTo wR="10800" hR="10800" stAng="-5802470" swAng="5802470"/>
                <a:lnTo>
                  <a:pt x="10800" y="10800"/>
                </a:lnTo>
                <a:close/>
              </a:path>
              <a:path fill="none" w="21600" h="21600">
                <a:moveTo>
                  <a:pt x="9538" y="74"/>
                </a:moveTo>
                <a:arcTo wR="10800" hR="10800" stAng="-5802470" swAng="5802470"/>
              </a:path>
            </a:pathLst>
          </a:cu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6836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трах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616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диафраг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8764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спинной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32000" y="3213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продолговатый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916000" y="2852640"/>
            <a:ext cx="360360" cy="50508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484360" y="22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дыхатель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88000" y="2349360"/>
            <a:ext cx="4105080" cy="431964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667280" y="3789360"/>
            <a:ext cx="25560" cy="26938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236000" y="3789360"/>
            <a:ext cx="25200" cy="26938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3080" y="3141720"/>
            <a:ext cx="792000" cy="71892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524360" y="2997360"/>
            <a:ext cx="360360" cy="50472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234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дыхатель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13800" y="335772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продолговатый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67640" y="5734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спинной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02560" y="5516640"/>
            <a:ext cx="220572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8" y="74"/>
                </a:moveTo>
                <a:arcTo wR="10800" hR="10800" stAng="-5802470" swAng="5802470"/>
                <a:lnTo>
                  <a:pt x="10800" y="10800"/>
                </a:lnTo>
                <a:close/>
              </a:path>
              <a:path fill="none" w="21600" h="21600">
                <a:moveTo>
                  <a:pt x="9538" y="74"/>
                </a:moveTo>
                <a:arcTo wR="10800" hR="10800" stAng="-5802470" swAng="5802470"/>
              </a:path>
            </a:pathLst>
          </a:cu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59280" y="616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диафраг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292720" y="3499920"/>
            <a:ext cx="2232000" cy="142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451280" y="3500280"/>
            <a:ext cx="73080" cy="19432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011640" y="5445000"/>
            <a:ext cx="1439640" cy="433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866920" y="5734080"/>
            <a:ext cx="576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215040" y="5761080"/>
            <a:ext cx="216000" cy="431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908600" y="2924280"/>
            <a:ext cx="815760" cy="936360"/>
          </a:xfrm>
          <a:custGeom>
            <a:avLst/>
            <a:gdLst/>
            <a:ahLst/>
            <a:rect l="l" t="t" r="r" b="b"/>
            <a:pathLst>
              <a:path w="514" h="590">
                <a:moveTo>
                  <a:pt x="514" y="0"/>
                </a:moveTo>
                <a:cubicBezTo>
                  <a:pt x="272" y="178"/>
                  <a:pt x="30" y="356"/>
                  <a:pt x="15" y="454"/>
                </a:cubicBezTo>
                <a:cubicBezTo>
                  <a:pt x="0" y="552"/>
                  <a:pt x="355" y="567"/>
                  <a:pt x="423" y="590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003640" y="386064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35600" y="3760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imes New Roman"/>
              </a:rPr>
              <a:t>носовая пол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нтересно, ч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7-8 лет  выявляются половые признаки отличия в типе дыхания: у  мальчиков становится преобладающим брюшной тип дыхания, в у девочек - гру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устроены правое и левое легк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ва роль пристеночной и легочной плев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чему плевральная щель заполнена жидк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чему альвеолярное легочное дыхание млекопитающих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человека более эффективно, чем у пресмыкающих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ва главная функция легки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фазы газообмена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происходит в легочную фазу газообм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чем суть транспортной фазы газообм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дыхательный пигмент и где он находи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ва роль эритроцитов в транспорте кислор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да попадает кислород в процессе переноса его кров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чем суть тканевой фазы газообм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возможности  следует избегать длительной задержки дыхания в момент мышечного усилия.  При задержке  дыхания снижается газообмен в легких и кровеносных сосудах, возникает застой крови, ухудшается кровоснабжение всех органов, особенно серд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771640" y="476280"/>
            <a:ext cx="446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 происходят   дыхательные дви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в механизм акта вдоха и выдох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 происходит  регуляция этих процесс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00000" y="2133720"/>
            <a:ext cx="727236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ыхательные движения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яция дыха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ыхательное движение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мена вдоха и выдоха, регулируемая дыхательным центром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 продолговатый мозг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Картинка 2 из 95"/>
          <p:cNvPicPr/>
          <p:nvPr/>
        </p:nvPicPr>
        <p:blipFill>
          <a:blip r:embed="rId1"/>
          <a:stretch/>
        </p:blipFill>
        <p:spPr>
          <a:xfrm>
            <a:off x="2411280" y="549360"/>
            <a:ext cx="502128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Органы, участвующие в дыхательных движениях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8521200">
            <a:off x="1834560" y="1844280"/>
            <a:ext cx="1152360" cy="43200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217000">
            <a:off x="5866920" y="1844280"/>
            <a:ext cx="1152720" cy="43200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2565360"/>
            <a:ext cx="3600360" cy="1800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межрёбер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мыш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08720" y="2565360"/>
            <a:ext cx="3384360" cy="1800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диафраг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9640" y="5013360"/>
            <a:ext cx="7993080" cy="1152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ЁГКИЕ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ВЫПОЛНЯЮТ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АССИВНУЮ 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826920" y="620640"/>
            <a:ext cx="7704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щение   межреберных мышц и мышц диафраг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1413000"/>
            <a:ext cx="720108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дная клетка поднимается, диафрагма уплощ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71640" y="2133720"/>
            <a:ext cx="698508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стеночная плевра отходит от лег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58920" y="3068640"/>
            <a:ext cx="662472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 плевральной щели   раз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92360" y="3716280"/>
            <a:ext cx="554508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гочная плевра прилипает к пристеноч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4437000"/>
            <a:ext cx="460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гкие растягива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8000" y="5084640"/>
            <a:ext cx="51850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вление легочного воздуха на 1-2 мм. рт. 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же атмосфер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67280" y="6021360"/>
            <a:ext cx="98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до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84720" y="1052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35600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56000" y="2708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5600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56000" y="4149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56000" y="4869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27640" y="5734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187280" y="214200"/>
            <a:ext cx="669780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45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7:18:11Z</dcterms:created>
  <dc:creator>Слюсарь Тамара Джонтьевна</dc:creator>
  <dc:description/>
  <dc:language>en-US</dc:language>
  <cp:lastModifiedBy>master</cp:lastModifiedBy>
  <dcterms:modified xsi:type="dcterms:W3CDTF">2008-12-14T11:26:20Z</dcterms:modified>
  <cp:revision>7</cp:revision>
  <dc:subject>Дыхательная система</dc:subject>
  <dc:title>Дыхательные движения. Регуляция дыхания</dc:title>
</cp:coreProperties>
</file>